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532-196B-4FD9-A3F8-D3209480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30E-3F40-4B91-B690-4AF7E8BC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159-6840-4958-B95D-0AE63F52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96A-7480-4DE2-ABE1-446C7C3A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512F-C1B6-40CC-A3B8-DFA7EA17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1FCE-0AD8-408B-8A49-738CA481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EDB7-25F7-4481-AF27-95AB09FC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F7C3-F415-4F3E-9122-A93283AE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8BE1-8AC6-4518-895C-2296028C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F78C-4956-4553-8694-B89FEA7A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D2F5-B583-4305-A343-4D81BA9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FEB-E608-4B48-8E93-1F638EBF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C0F9-803A-452C-871F-F1A17141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3E73-54EA-4EF7-92E9-D7F9D64C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6DFB-7395-450B-9476-7342F0B5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5ABD-2E2D-42FB-880F-9D241741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0B24-168C-4E98-B8F4-8A7E7E43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52B-9336-4261-BB4F-25F1B061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A55-5E17-443F-A37F-1A83B28A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7B3-4BE5-48FF-BB56-6F8BA0D7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BCE-ADBB-4177-ADF5-41D7EA07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7B5-6F8B-4662-94CD-CFA84352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E29-9191-459D-88FE-7140B79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C88-BB04-4857-A3CB-105D4835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4BC6-AEF0-4209-BE23-7B6EB063F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8975-F5E9-4F66-ADEF-370949CA1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hiloso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werPoint Emphasizes Their Philosophies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Zurich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everal schools to help educate poo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uccessful education depended on the security and support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enuine affection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proces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– careful observation and experience with an object in the natur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– incorporating the five senses to be able to describe objects and ideas o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– developing and using a vocabulary to describe the object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10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break away from lecture and mem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true education will produce economically self-suffici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d form the Doctrine of Self-Activity – the idea that a child is born with the power to receive impressions and react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must be connected to a certain need or want of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contribute to the growth of the physical body, the mind, and the morality of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hands-on learning with actual objects and field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be hands-on, practical, and stud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Derby,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freedom to develop naturally through the employment of sensory data and empir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all human activity was the result of an evolutionary process – actually coined the phrase “survival of the fittest” referring to society as opposed to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empiricism as the primary source of knowledge, but conceded that not everything can be observed so not everything can b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9880" y="1066680"/>
            <a:ext cx="1500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knowledge is a process of moving from simplicity to complexity, so evolutionary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concerned with applying principles of evolution, accumulation of scientific data, and inductive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clude a curriculum that is focused on the worth and relative use of the knowledge to the individual during his/he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CIENCE was the essence of the modern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laboratory method was most valuable due to its student centeredness and promotion of self-disciplin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s should promote self-development through interesting and fu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on a farm in Burlington, Verm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reality is a “liquid process” which is constantly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ool should be a microcosm of the community or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ociety must transmit the habits of doing, thinking, and feeling from the older to the yo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ing new knowledge should result in further inquiry and eventual action which he called “making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rumen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182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trongly in the us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lective th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tive, persistent and careful consideration of a belief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provide students with the processes and behaviors that will sustain a democratic wa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not have any preconceived, fixed, or determined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centered, activity-oriented curriculum which promotes reflective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is responsible for providing problems or situations that will be interesting and challenging, and worthwhile in promoting soc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, not a prepa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 – a dynamic, ongoing, never-end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d to bring the real world into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ed the world as composed of ignorant and imperfect individuals living in an uncertain universe in which nothing is rational or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society could be mad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human experience provides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eriences should involve reflection, freedom of choice, decision making an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05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is nothing else but what he makes of himself (was an athe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that free choice in the classroom promotes teacher-student partnerships and student empowe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though free choice should be given, these experiences should be well planned and not entirely devoid of constraints o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304812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Athens  Mother – midwife  Father – stonec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d for being seen as a threat to exis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d of the universality of right/wrong, good/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relationship between knowledge and virt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he Socratic Method for questi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an ill-considered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ing that points out inconsis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fining the original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efinition is again critically exa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362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universal body of knowledge that was a gift from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’s goal is to help students uncover knowledge t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world” was one of ideas that were universal and 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should be centered around the classic body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hould let students make intellectual discoveries; teachers should not just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ratic Method promotes critical thinking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London – lived very politic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he systematic study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ed at practice rather tha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id the foundation for pragma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believe that humankind already possessed a body of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most knowledge of his time to be false because it was not based on sufficient examination of the concret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1720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knowledge could be attained through amassing data, carefully interpreting the data, and conducting experiments founded on organized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/Truth is fou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, 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y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pow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cusing on the acquisition of knowledge through a process of going from specific 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ess and persistent uncovering of facts and principles that are not alread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ssists students in generating/observing specifics and then moves them toward general statements or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human beings are individually good from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be founded on personal exploration of and contact with nature, people, and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 society as superficial with weak human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f a person became bad , it was due to the influence of corrupt social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668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simplicity, personalized education, and a just society founded on individu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l knowledge reaches the mind through the s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ly promo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o grow toward goodness we must be in harmony with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world was made up of verifiable constants/order which were established by a Supreme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onent of naturalism – believing that human beings learn gradually and constantly throughout their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volve the development of capacities rather than the imposition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of what should/ought to be, not w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Trier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class struggle and economic conditions were the sole causal determinants of history and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philosophy of action which could change laws, institutions, and enable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students with empowering knowledge and skills that will allow them to transform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focus on the needs of the individual, so that each would gain the knowledge needed to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3623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a technologically grounded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having students understand the economic system in which they would b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insights and critical inquiry skills that would enable them to transform the dominant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Hegel’s use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alec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ption – contradiction – new understanding) but thought the end result should include practical action that would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1:51:05Z</dcterms:created>
  <dc:creator>Kim Collazo</dc:creator>
  <dc:description/>
  <dc:language>en-US</dc:language>
  <cp:lastModifiedBy>Kim Collazo</cp:lastModifiedBy>
  <dcterms:modified xsi:type="dcterms:W3CDTF">2007-06-29T19:43:48Z</dcterms:modified>
  <cp:revision>5</cp:revision>
  <dc:subject/>
  <dc:title>Famous Philosophers</dc:title>
</cp:coreProperties>
</file>