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D2C-4351-46D6-B386-9F32FDEA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0A5-0162-444F-981F-D2D574CE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77E-E1EB-43B1-955F-59092FEC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E75-5271-4E85-B948-C8EE1070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2597-5612-42EF-96B1-C489EC1A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C7E7-D2CA-45C9-AEEF-2ACF664C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837B-065E-4BDC-AC2A-DD10E223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6C33-2496-4E34-83BF-267A8AD2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3EDB-0F5F-49F2-9420-48F32049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ADBF-D9C3-4082-8983-E4833AF5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C160-5048-4F06-A0CB-CBCDBB0F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0A1-6F9E-4CFE-93F7-6AA52C44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5F27-3AA5-433D-BDCE-E96155F2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004C-7C35-4E30-9418-CEAD6406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9370-8D39-4071-8ABA-33B36530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FECD-79A5-4189-992D-4A61C39F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C9AD-2C9B-4546-B88F-876E6A45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DA4-73B4-4451-8291-1652220B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7F6-AC4E-4447-8C36-2A209181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488-85E2-4B28-BC2F-72B6EBED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15C-CA7E-4EFC-96DF-AF10DD43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958-86BD-4CD2-BED5-E2E25AA6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F7D8-28CE-478A-B4CA-8D3EE6D2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3B9-D797-4122-AAB6-6843C07B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8724-FDDA-4FBA-814C-D43AD1AD8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B56D-EFC9-4824-9CE0-8F6C27E09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Philoso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werPoint Emphasizes Their Philosophies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 Heinrich Pestalozz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6 - 18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Zurich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everal schools to help educate poor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uccessful education depended on the security and support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enuine affection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process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– careful observation and experience with an object in the natur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– incorporating the five senses to be able to describe objects and ideas o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 – developing and using a vocabulary to describe the object or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91120" y="1066680"/>
            <a:ext cx="1081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 Heinrich Pestalozz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6 - 18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break away from lecture and mem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true education will produce economically self-sufficie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ed form the Doctrine of Self-Activity – the idea that a child is born with the power to receive impressions and react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must be connected to a certain need or want of th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contribute to the growth of the physical body, the mind, and the morality of the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hands-on learning with actual objects and field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should be hands-on, practical, and student-c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Derby,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the freedom to develop naturally through the employment of sensory data and empirica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all human activity was the result of an evolutionary process – actually coined the phrase “survival of the fittest” referring to society as opposed to 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d empiricism as the primary source of knowledge, but conceded that not everything can be observed so not everything can b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9880" y="1066680"/>
            <a:ext cx="1500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knowledge is a process of moving from simplicity to complexity, so evolutionary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concerned with applying principles of evolution, accumulation of scientific data, and inductive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include a curriculum that is focused on the worth and relative use of the knowledge to the individual during his/he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CIENCE was the essence of the modern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e laboratory method was most valuable due to its student centeredness and promotion of self-disciplin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s should promote self-development through interesting and fu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ew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9 - 1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29718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on a farm in Burlington, Verm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reality is a “liquid process” which is constantly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ool should be a microcosm of the community or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ociety must transmit the habits of doing, thinking, and feeling from the older to the yo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ing new knowledge should result in further inquiry and eventual action which he called “making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trument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1182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ew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9 - 1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trongly in the us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lective thin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ctive, persistent and careful consideration of a belief or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should provide students with the processes and behaviors that will sustain a democratic wa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not have any preconceived, fixed, or determined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centered, activity-oriented curriculum which promotes reflective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is responsible for providing problems or situations that will be interesting and challenging, and worthwhile in promoting soci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fe, not a prepa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fe – a dynamic, ongoing, never-ending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d to bring the real world into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Paul Sart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5-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3123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ed the world as composed of ignorant and imperfect individuals living in an uncertain universe in which nothing is rational or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society could be mad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 human experience provides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xperiences should involve reflection, freedom of choice, decision making and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19051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Paul Sart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5-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 is nothing else but what he makes of himself (was an athe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t that free choice in the classroom promotes teacher-student partnerships and student empowe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although free choice should be given, these experiences should be well planned and not entirely devoid of constraints or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9-399 B.C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304812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Athens  Mother – midwife  Father – stonec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d for being seen as a threat to existing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inced of the universality of right/wrong, good/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relationship between knowledge and virt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the Socratic Method for questi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an ill-considered statement/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ing that points out inconsis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fining the original statement/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efinition is again critically exa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1362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9-399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a universal body of knowledge that was a gift from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’s goal is to help students uncover knowledge that already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world” was one of ideas that were universal and 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culum should be centered around the classic body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hould let students make intellectual discoveries; teachers should not just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ratic Method promotes critical thinking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Bac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1 -16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London – lived very politic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he systematic study of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ed at practice rather than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id the foundation for pragma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believe that humankind already possessed a body of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most knowledge of his time to be false because it was not based on sufficient examination of the concret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1720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Bac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1 -16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knowledge could be attained through amassing data, carefully interpreting the data, and conducting experiments founded on organized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y/Truth is fou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ure, no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y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the power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reaso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ocusing on the acquisition of knowledge through a process of going from specific t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less and persistent uncovering of facts and principles that are not alread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ssists students in generating/observing specifics and then moves them toward general statements or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Jacques Rouss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12 - 17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human beings are individually good from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be founded on personal exploration of and contact with nature, people, and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w society as superficial with weak human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f a person became bad , it was due to the influence of corrupt social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1668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Jacques Rouss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12 - 17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simplicity, personalized education, and a just society founded on individual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all knowledge reaches the mind through the s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ly promo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tial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o grow toward goodness we must be in harmony with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e world was made up of verifiable constants/order which were established by a Supreme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onent of naturalism – believing that human beings learn gradually and constantly throughout their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involve the development of capacities rather than the imposition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 of what should/ought to be, not what already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l Mar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8 - 18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Trier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class struggle and economic conditions were the sole causal determinants of history and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a philosophy of action which could change laws, institutions, and enable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provide students with empowering knowledge and skills that will allow them to transform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focus on the needs of the individual, so that each would gain the knowledge needed to chang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23623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l Mar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8 - 18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d a technologically grounded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ed in having students understand the economic system in which they would b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provide insights and critical inquiry skills that would enable them to transform the dominant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Hegel’s use of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alect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umption – contradiction – new understanding) but thought the end result should include practical action that would chang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21:51:05Z</dcterms:created>
  <dc:creator>Kim Collazo</dc:creator>
  <dc:description/>
  <dc:language>en-US</dc:language>
  <cp:lastModifiedBy>Kim Collazo</cp:lastModifiedBy>
  <dcterms:modified xsi:type="dcterms:W3CDTF">2007-06-29T19:43:48Z</dcterms:modified>
  <cp:revision>5</cp:revision>
  <dc:subject/>
  <dc:title>Famous Philosophers</dc:title>
</cp:coreProperties>
</file>