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C1A-7B79-44A3-990F-BE6909B5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32F-D651-4480-B437-3853F8CC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297-B6BB-4A9F-A3FA-88592A50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9C0-2282-439D-8894-6BF175BA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E4B0-6199-45BA-B89A-2AC8A76F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7F4C-3255-4E7F-A729-BEA70D14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814B-D5C6-40CF-A7E7-A77C0F18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D490-0380-427F-A224-1910141E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676B-DD21-4F93-962D-76E6352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F215-18F7-46DD-9FE0-BFE9CB92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A64A-8269-439F-A48E-985C1D9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D11-6620-4AF1-ACB0-B0C3022B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2AF8-4EB4-42C7-B3B5-5074C793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F42D-683C-4136-A2BB-1EE947E9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D960-180E-4B14-A30C-C9FE2C3A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4EE4-3A19-4614-A9B0-E12206B5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6966-94EF-44CE-B1E4-A34258D5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77A-AA93-4CBB-8AC0-5EA5CF85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AB0-A74D-4FCF-8B3F-F4EF3A96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10E-1650-4E81-826B-CE9AA3BA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977-2669-4614-BC7E-02CFCD67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316-04C2-48DB-BA02-7D619CB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88A-0915-4D70-BFC1-F4CF524A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048-D56E-4BDC-92B7-F677EB5A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A437-14CF-4596-81FC-C5A1EE836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FA7A-318B-40CB-89BE-0CFF26437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Point Emphasizes Their Philosophies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Zurich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veral schools to help educate poo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uccessful education depended on the security and support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enuine affection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proces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– careful observation and experience with an object in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– incorporating the five senses to be able to describe objects and ideas o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– developing and using a vocabulary to describe the object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10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break away from lecture and mem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true education will produce economically self-suffici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form the Doctrine of Self-Activity – the idea that a child is born with the power to receive impressions and react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must be connected to a certain need or want of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contribute to the growth of the physical body, the mind, and the morality of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hands-on learning with actual objects and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be hands-on, practical, and stud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Derby,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freedom to develop naturally through the employment of sensory data and empir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all human activity was the result of an evolutionary process – actually coined the phrase “survival of the fittest” referring to society as opposed to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empiricism as the primary source of knowledge, but conceded that not everything can be observed so not everything can b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150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knowledge is a process of moving from simplicity to complexity, so evolutionar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concerned with applying principles of evolution, accumulation of scientific data, and inductive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clude a curriculum that is focused on the worth and relative use of the knowledge to the individual during his/he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CIENCE was the essence of the modern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laboratory method was most valuable due to its student centeredness and promotion of self-disciplin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s should promote self-development through interesting and fu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on a farm in Burlington, Ver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reality is a “liquid process” which is constantly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should be a microcosm of the community or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ociety must transmit the habits of doing, thinking, and feeling from the older to the yo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ing new knowledge should result in further inquiry and eventual action which he called “making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rumen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182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trongly in the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lective th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tive, persistent and careful consideration of a belief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provide students with the processes and behaviors that will sustain a democratic wa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not have any preconceived, fixed, or determined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centered, activity-oriented curriculum which promotes reflective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responsible for providing problems or situations that will be interesting and challenging, and worthwhile in promoting soc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, not a prepa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 – a dynamic, ongoing, never-end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d to bring the real world into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ed the world as composed of ignorant and imperfect individuals living in an uncertain universe in which nothing is rational 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ociety could be mad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human experience provides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ences should involve reflection, freedom of choice, decision making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05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is nothing else but what he makes of himself (was an athe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that free choice in the classroom promotes teacher-student partnerships and student empowe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though free choice should be given, these experiences should be well planned and not entirely devoid of constraints o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30481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Athens  Mother – midwife  Father – stonec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d for being seen as a threat to exis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d of the universality of right/wrong, good/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relationship between knowledge and virt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he Socratic Method for questi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n ill-considered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ing that points out inconsis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fining the original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efinition is again critically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362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universal body of knowledge that was a gift from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’s goal is to help students uncover knowledge t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world” was one of ideas that were universal and 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should be centered around the classic body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hould let students make intellectual discoveries; teachers should not just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ratic Method promotes critical thinking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London – lived very politic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he systematic study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ed at practice rather tha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id the foundation for pragma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believe that humankind already possessed a body of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most knowledge of his time to be false because it was not based on sufficient examination of the concret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72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knowledge could be attained through amassing data, carefully interpreting the data, and conducting experiments founded on organize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/Truth is fo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, 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cusing on the acquisition of knowledge through a process of going from specific 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ess and persistent uncovering of facts and principles that are not alread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ssists students in generating/observing specifics and then moves them toward general statements or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human beings are individually good from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be founded on personal exploration of and contact with nature, people, and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 society as superficial with weak human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f a person became bad , it was due to the influence of corrupt soci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668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simplicity, personalized education, and a just society founded on individu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l knowledge reaches the mind through the s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ly promo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 grow toward goodness we must be in harmony with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world was made up of verifiable constants/order which were established by a Supreme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nent of naturalism – believing that human beings learn gradually and constantly throughout their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volve the development of capacities rather than the imposi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of what should/ought to be, not w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Trier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class struggle and economic conditions were the sole causal determinants of history and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philosophy of action which could change laws, institutions, and enabl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students with empowering knowledge and skills that will allow them to transform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focus on the needs of the individual, so that each would gain the knowledge needed to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362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a technologically grounded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having students understand the economic system in which they would b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insights and critical inquiry skills that would enable them to transform the dominant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Hegel’s us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alec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ption – contradiction – new understanding) but thought the end result should include practical action that would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1:51:05Z</dcterms:created>
  <dc:creator>Kim Collazo</dc:creator>
  <dc:description/>
  <dc:language>en-US</dc:language>
  <cp:lastModifiedBy>Kim Collazo</cp:lastModifiedBy>
  <dcterms:modified xsi:type="dcterms:W3CDTF">2007-06-29T19:43:48Z</dcterms:modified>
  <cp:revision>5</cp:revision>
  <dc:subject/>
  <dc:title>Famous Philosophers</dc:title>
</cp:coreProperties>
</file>