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6DF2-12BA-4524-A103-16B1C49B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EB1-51D2-4B1F-9F0E-B1590E84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91B-1F55-4B10-9E6C-EBAD30DF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F55-77DC-4BCE-BD2B-87BD8E9F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9EB5-2D4A-471F-864A-002A98A2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E741-2F60-4F9D-90DF-A05F1F93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445A-9F8A-4D9E-9EE3-6AE83ACB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EEA5-CACD-46F9-8BE3-76A700F7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B260-BDEA-407F-982B-23926F82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A542-3510-41E9-8DBB-2CC43349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60A4-A531-4599-83D4-A9EF7317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C4FB-6038-4648-A578-3009774D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BFA6-2B6F-4B5F-8EDE-F0AFECA5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91DF-1421-43D2-9C4A-69A8C323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968A-E85B-44CC-9787-7F26B0E1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F80A-53FD-4A9A-9F3B-0DEF1633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1717-BF0F-4DD7-B5F5-E03C89AE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EFE9-C825-4C8A-B348-F2C319EC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6297-7C58-4674-BEAB-E23D8611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9E4-40C1-4D59-852D-38F76F4E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E782-1FF8-4517-A96A-0DF6A178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EE9-85A9-43C8-AFA4-6170484A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863C-DB7A-4431-AE32-124661D4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F7B8-32A2-41A5-A435-8F68176D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F2B4-C6FE-4106-A03B-D9C7E5181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1462-864C-4067-AB53-576EC4DE0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ous Philoso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owerPoint Emphasizes Their Philosophies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ann Heinrich Pestalozz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6 - 18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Zurich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everal schools to help educate poor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uccessful education depended on the security and support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enuine affection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 process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– careful observation and experience with an object in the natur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– incorporating the five senses to be able to describe objects and ideas o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s – developing and using a vocabulary to describe the object or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91120" y="1066680"/>
            <a:ext cx="10810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ann Heinrich Pestalozz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6 - 18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break away from lecture and mem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true education will produce economically self-sufficien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ed form the Doctrine of Self-Activity – the idea that a child is born with the power to receive impressions and react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must be connected to a certain need or want of the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contribute to the growth of the physical body, the mind, and the morality of the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hands-on learning with actual objects and field 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should be hands-on, practical, and student-ce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bert Spenc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0-19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Derby,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the freedom to develop naturally through the employment of sensory data and empirical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all human activity was the result of an evolutionary process – actually coined the phrase “survival of the fittest” referring to society as opposed to 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d empiricism as the primary source of knowledge, but conceded that not everything can be observed so not everything can b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9880" y="1066680"/>
            <a:ext cx="1500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bert Spenc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0-19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knowledge is a process of moving from simplicity to complexity, so evolutionary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concerned with applying principles of evolution, accumulation of scientific data, and inductive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include a curriculum that is focused on the worth and relative use of the knowledge to the individual during his/he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CIENCE was the essence of the modern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e laboratory method was most valuable due to its student centeredness and promotion of self-discipline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rooms should promote self-development through interesting and fu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Dew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9 - 19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29718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on a farm in Burlington, Verm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reality is a “liquid process” which is constantly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ool should be a microcosm of the community or th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ociety must transmit the habits of doing, thinking, and feeling from the older to the you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ing new knowledge should result in further inquiry and eventual action which he called “making”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strument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11829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Dew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9 - 19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strongly in the us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lective thin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ctive, persistent and careful consideration of a belief or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should provide students with the processes and behaviors that will sustain a democratic way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not have any preconceived, fixed, or determined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centered, activity-oriented curriculum which promotes reflective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is responsible for providing problems or situations that will be interesting and challenging, and worthwhile in promoting social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fe, not a prepa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fe – a dynamic, ongoing, never-ending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ed to bring the real world into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Paul Sart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5-19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3123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P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ed the world as composed of ignorant and imperfect individuals living in an uncertain universe in which nothing is rational or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society could be made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ive human experience provides 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xperiences should involve reflection, freedom of choice, decision making and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657600" y="1066680"/>
            <a:ext cx="19051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Paul Sart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5-19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 is nothing else but what he makes of himself (was an athe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t that free choice in the classroom promotes teacher-student partnerships and student empowe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although free choice should be given, these experiences should be well planned and not entirely devoid of constraints or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ra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9-399 B.C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304812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Athens  Mother – midwife  Father – stonec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d for being seen as a threat to existing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inced of the universality of right/wrong, good/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relationship between knowledge and virt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the Socratic Method for questi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an ill-considered statement/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ing that points out inconsis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fining the original statement/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definition is again critically exa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13622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ra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9-399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a universal body of knowledge that was a gift from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’s goal is to help students uncover knowledge that already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world” was one of ideas that were universal and 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iculum should be centered around the classic body of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should let students make intellectual discoveries; teachers should not just l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ratic Method promotes critical thinking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is Bac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61 -16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London – lived very politic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he systematic study of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ed at practice rather than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id the foundation for pragma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believe that humankind already possessed a body of 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most knowledge of his time to be false because it was not based on sufficient examination of the concret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733920" y="1066680"/>
            <a:ext cx="1720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is Bac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61 -16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knowledge could be attained through amassing data, carefully interpreting the data, and conducting experiments founded on organized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ty/Truth is fou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ture, no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yo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the power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ve reaso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ocusing on the acquisition of knowledge through a process of going from specific to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less and persistent uncovering of facts and principles that are not already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assists students in generating/observing specifics and then moves them toward general statements or 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Jacques Roussea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12 - 17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human beings are individually good from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be founded on personal exploration of and contact with nature, people, and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w society as superficial with weak human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f a person became bad , it was due to the influence of corrupt social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1668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Jacques Roussea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12 - 17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simplicity, personalized education, and a just society founded on individual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all knowledge reaches the mind through the s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ly promo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ential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o grow toward goodness we must be in harmony with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e world was made up of verifiable constants/order which were established by a Supreme 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onent of naturalism – believing that human beings learn gradually and constantly throughout their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should involve the development of capacities rather than the imposition of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y of what should/ought to be, not what already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l Mar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18 - 18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Trier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class struggle and economic conditions were the sole causal determinants of history and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in a philosophy of action which could change laws, institutions, and enable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should provide students with empowering knowledge and skills that will allow them to transform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should focus on the needs of the individual, so that each would gain the knowledge needed to chang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29000" y="1066680"/>
            <a:ext cx="23623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l Mar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18 - 18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d a technologically grounded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ed in having students understand the economic system in which they would be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should provide insights and critical inquiry skills that would enable them to transform the dominant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Hegel’s use of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alect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umption – contradiction – new understanding) but thought the end result should include practical action that would chang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21:51:05Z</dcterms:created>
  <dc:creator>Kim Collazo</dc:creator>
  <dc:description/>
  <dc:language>en-US</dc:language>
  <cp:lastModifiedBy>Kim Collazo</cp:lastModifiedBy>
  <dcterms:modified xsi:type="dcterms:W3CDTF">2007-06-29T19:43:48Z</dcterms:modified>
  <cp:revision>5</cp:revision>
  <dc:subject/>
  <dc:title>Famous Philosophers</dc:title>
</cp:coreProperties>
</file>